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599-EC0F-46A2-A3B5-68617AE3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164-C912-4868-B561-ACC8B142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CD7-1C9C-479E-A965-BC518BCE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E840-2297-4FFA-9D14-EFA4ADF5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7F24-2CA5-4532-BEC7-202B6D82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6CF-272C-4606-9684-7EBDA6EB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08CA-F5CC-478E-B2DB-19DF0612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DE6-40B0-48F0-99F4-4FA57FAE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2A1-65E4-4E24-8BC5-3C42A17B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339-BA27-4952-AC79-916E949B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567-A1B4-45D0-9EA1-B7921369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75B2-166D-4A1B-84C3-2FD868F1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78BD-5565-4C1E-A9C9-E858B171B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45720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cc00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cc00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04920" y="3548160"/>
            <a:ext cx="868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Antagonistic micro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Plant and animal - derived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nduced resistance in PH commod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Control of PH diseases with elic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Genetic transformation of plants to increase disease                                                                       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Combining different biological control method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52280" y="19810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Evangelos Sfakiotakis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Professor of Pomology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Aristotle University of Thessalon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Biological control of postharvest diseases</a:t>
            </a:r>
            <a:br>
              <a:rPr sz="3200"/>
            </a:b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with antagonistic bacteria, filamentus fungi and ye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532080" y="2882880"/>
            <a:ext cx="8611560" cy="1092240"/>
            <a:chOff x="532080" y="2882880"/>
            <a:chExt cx="8611560" cy="1092240"/>
          </a:xfrm>
        </p:grpSpPr>
        <p:grpSp>
          <p:nvGrpSpPr>
            <p:cNvPr id="77" name="Group 4"/>
            <p:cNvGrpSpPr/>
            <p:nvPr/>
          </p:nvGrpSpPr>
          <p:grpSpPr>
            <a:xfrm>
              <a:off x="532080" y="3197160"/>
              <a:ext cx="8611560" cy="777960"/>
              <a:chOff x="532080" y="3197160"/>
              <a:chExt cx="8611560" cy="777960"/>
            </a:xfrm>
          </p:grpSpPr>
          <p:sp>
            <p:nvSpPr>
              <p:cNvPr id="78" name="Rectangle 5"/>
              <p:cNvSpPr/>
              <p:nvPr/>
            </p:nvSpPr>
            <p:spPr>
              <a:xfrm>
                <a:off x="609480" y="3822480"/>
                <a:ext cx="4343040" cy="152640"/>
              </a:xfrm>
              <a:prstGeom prst="rect">
                <a:avLst/>
              </a:prstGeom>
              <a:solidFill>
                <a:srgbClr val="99ff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6"/>
              <p:cNvSpPr/>
              <p:nvPr/>
            </p:nvSpPr>
            <p:spPr>
              <a:xfrm>
                <a:off x="4952880" y="3822480"/>
                <a:ext cx="2282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7"/>
              <p:cNvSpPr/>
              <p:nvPr/>
            </p:nvSpPr>
            <p:spPr>
              <a:xfrm>
                <a:off x="5181480" y="3822480"/>
                <a:ext cx="3962160" cy="1526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 Box 8"/>
              <p:cNvSpPr/>
              <p:nvPr/>
            </p:nvSpPr>
            <p:spPr>
              <a:xfrm>
                <a:off x="532080" y="3213000"/>
                <a:ext cx="425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00"/>
                    </a:solidFill>
                    <a:latin typeface="Arial"/>
                  </a:rPr>
                  <a:t>Growth and development in the fiel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9"/>
              <p:cNvSpPr/>
              <p:nvPr/>
            </p:nvSpPr>
            <p:spPr>
              <a:xfrm>
                <a:off x="6018840" y="319716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00"/>
                    </a:solidFill>
                    <a:latin typeface="Arial"/>
                  </a:rPr>
                  <a:t>Postharves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Text Box 10"/>
            <p:cNvSpPr/>
            <p:nvPr/>
          </p:nvSpPr>
          <p:spPr>
            <a:xfrm>
              <a:off x="4471920" y="2882880"/>
              <a:ext cx="11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Harves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Rectangle 11"/>
          <p:cNvSpPr/>
          <p:nvPr/>
        </p:nvSpPr>
        <p:spPr>
          <a:xfrm>
            <a:off x="235800" y="2209680"/>
            <a:ext cx="75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When the antagonist should be appli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09480" y="4019400"/>
            <a:ext cx="6172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Preharvest applications offers 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Optimisation require understanding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he crop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disease epidemi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he biology, ecology and population dynamic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he interaction among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Object 8"/>
          <p:cNvGraphicFramePr/>
          <p:nvPr/>
        </p:nvGraphicFramePr>
        <p:xfrm>
          <a:off x="152280" y="914400"/>
          <a:ext cx="11355480" cy="4653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914400"/>
                    <a:ext cx="1135548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Picture 5" descr="maich.png"/>
          <p:cNvPicPr/>
          <p:nvPr/>
        </p:nvPicPr>
        <p:blipFill>
          <a:blip r:embed="rId4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0" y="6480"/>
            <a:ext cx="9163080" cy="68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Botrytis rots starts from senesc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flower parts that become latent infe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which develop later into active ro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on ripe fr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Good control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Aureobasidium pullu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Candida oleoph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sprayed at bloom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They colonise the flowers and preven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the colonisation by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B. cinere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2"/>
          <a:stretch/>
        </p:blipFill>
        <p:spPr>
          <a:xfrm>
            <a:off x="5013360" y="990720"/>
            <a:ext cx="4130640" cy="6242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8949960" y="10008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1523880" y="2629080"/>
            <a:ext cx="3505320" cy="114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228600" y="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3300"/>
                </a:solidFill>
                <a:latin typeface="Arial"/>
              </a:rPr>
              <a:t>Latent and quisc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3300"/>
                </a:solidFill>
                <a:latin typeface="Arial"/>
              </a:rPr>
              <a:t>inf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maich.png"/>
          <p:cNvPicPr/>
          <p:nvPr/>
        </p:nvPicPr>
        <p:blipFill>
          <a:blip r:embed="rId3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0" y="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nfection through wounds during harvest and postharvest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3505320" y="730080"/>
            <a:ext cx="5638680" cy="3656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-9360" y="4343400"/>
            <a:ext cx="8970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Mechanical injuries during harvest and postharvest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A near harvest application of postharvest with antagonist delay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On apples a (2 days) preharvest application with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C. sake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had less blue mou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after 4 months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On strawberries treated with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A. pullulans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immediately before harves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Rhizopus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rot was reduced by 72% but not on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B. cine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8"/>
          <p:cNvSpPr/>
          <p:nvPr/>
        </p:nvSpPr>
        <p:spPr>
          <a:xfrm flipV="1">
            <a:off x="685800" y="2895480"/>
            <a:ext cx="487692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maich.png"/>
          <p:cNvPicPr/>
          <p:nvPr/>
        </p:nvPicPr>
        <p:blipFill>
          <a:blip r:embed="rId3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80880" y="228600"/>
            <a:ext cx="90680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Suppression of pathogen inocul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Managing fruit rots by means of preharvest treatments with biocontrol agents--&gt;suppress the pathogen at th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Trichoderma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protects floral cups of grape from botrytis inva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152280" y="228600"/>
            <a:ext cx="90680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Unadvisable postharvest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When postharvest handling is unacceptable (the produce may become less appealing) best to apply preharvest application of biocontrol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e.g. grapes 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(fruits with waxy bloom on the su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apply 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A. pullulan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3 days before harvest-the grape bunches are directed packed in the field and stored at 0°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same with strawberries spay with suspension of antagonistic propagules, one day before harvest, pack the into plastic baskets where they remain until they reach the 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152280" y="228600"/>
            <a:ext cx="906804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raits of antagonists for preharvest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Resistance to environment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Ideal antagonist characteristics: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Genetic 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Efficacy at low concentrations and against a wide range of pathogens on various fr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imple nutritional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urvival in adverse environment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Lack of pathogenicity for the hos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afe for hum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Resistant to the pestic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Compatibility with other chemical and physical treatments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olerate low nutrient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UV ra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desic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rapid climatic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presence of agrochem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228600" y="423720"/>
            <a:ext cx="9067680" cy="60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raits of antagonists for preharvest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Resistance to environment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deal antagonist characteristic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Genetic 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Efficacy at low concentrations and against a wide range of pathogens on various fr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imple nutritional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urvival in adverse environment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Lack of pathogenicity for the hos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afe for hum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Resistant to the pestic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Compatibility with other chemical and physical treatments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Filamentous fungi and yeast are the most appropriate antagon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Bacteria are less tolerant of the harsh environmental cond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Under high RH some bacteria may control postharvest dis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UV radiation detrimental factor for microbial colonisatio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o protect yeast and bacteria form cell capsules with polysacharide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52280" y="228600"/>
            <a:ext cx="906804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raits of antagonists for preharvest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Resistance to environment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Filamentous fungi and yeast are the most appropriate antagon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Bacteria are less tolerant of the harsh environmental cond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Under high RH some bacteria may control postharvest dis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UV radiation detrimental factor for microbial colonisatio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o protect yeast and bacteria form cell capsules with polysacharide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152280" y="228600"/>
            <a:ext cx="90680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raits of antagonists for preharvest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Attachement to the host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mportant for surface colo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In yeasts production of slime (extracellular polysacharides) - the main mechanism to adhere to the leave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-based technologies for the control of postharvest diseases</a:t>
            </a:r>
            <a:br>
              <a:rPr sz="4400"/>
            </a:br>
            <a:r>
              <a:rPr b="0" lang="el-GR" sz="3600" spc="-1" strike="noStrike">
                <a:solidFill>
                  <a:srgbClr val="ff0000"/>
                </a:solidFill>
                <a:latin typeface="Arial"/>
              </a:rPr>
              <a:t>Use of antagonistic microorg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152280" y="228600"/>
            <a:ext cx="5639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raits of antagonists for preharvest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Fruit surface colo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Crucial is the host fruit colo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A successful biocolonisation agent should well established before the pathogen arr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A. pollulans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applied to grapes, strawberries and sweet cherries, indicated population densities in the field did not change and in each case were caused a decrease in postharvest decay during cold storage and afterward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792760" y="2057400"/>
            <a:ext cx="3348000" cy="480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maich.png"/>
          <p:cNvPicPr/>
          <p:nvPr/>
        </p:nvPicPr>
        <p:blipFill>
          <a:blip r:embed="rId3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152280" y="228600"/>
            <a:ext cx="9068040" cy="60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mproving the efficacy of biocontrol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ixture of antago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o assure adequate disease control under various conditions a mixture of antagonists is 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t may broaden the spectrum of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t may enhance efficacy-allowing a reduction in application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t may allow the combination of various biocontrol traits without 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resorting generic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Apples -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Sporobolomyces roseus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P. syringae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/ blue mould on Golden Delic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Better microorganism mixtures could be selected if we know the ecology of the microorg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52280" y="228600"/>
            <a:ext cx="90680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mproving the efficacy of biocontrol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ntegrated control with the use of pestic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Pesticide applications can have a harmful effect on non-pathogenic microbial populations (e.g. app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integration of fungicides with biocontrol agents offers an opportunity to reduce the amount of fungicide in preharvest applic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152280" y="228600"/>
            <a:ext cx="90680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mproving the efficacy of biocontrol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Auxiliary to improve biocontrol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A. pullulan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M. pulcherrima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(R320) was improved in preharvest application using chitos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Calcium chloride application significantly improved the efficacy of 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A. pullulan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in preharvest grape application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3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152280" y="228600"/>
            <a:ext cx="9068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Final remarks and future pro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" y="1752480"/>
            <a:ext cx="4343400" cy="15264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572000" y="1752480"/>
            <a:ext cx="22860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800600" y="1752480"/>
            <a:ext cx="396252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50840" y="1143000"/>
            <a:ext cx="42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Growth and development in the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638320" y="112716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Postharv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091040" y="81288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Harv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25440" y="2021040"/>
            <a:ext cx="37893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An antagonist applied in the field prior to harvest can reduce the inoculumat harv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 antagonist will be in the right place at the right moment ready to colonise the susceptible tissues (senescing floral parts, freshly made wounds etc.) before the arrival of patho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Ecological studies are necess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Needs for detecting and monitoring biocontrol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 role of getetic manipulation with cloned genes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0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013280" y="1981080"/>
            <a:ext cx="2387520" cy="4876920"/>
          </a:xfrm>
          <a:prstGeom prst="rect">
            <a:avLst/>
          </a:prstGeom>
          <a:ln w="0">
            <a:noFill/>
          </a:ln>
        </p:spPr>
      </p:pic>
      <p:sp>
        <p:nvSpPr>
          <p:cNvPr id="145" name="Line 11"/>
          <p:cNvSpPr/>
          <p:nvPr/>
        </p:nvSpPr>
        <p:spPr>
          <a:xfrm>
            <a:off x="4648320" y="12193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4" descr="maich.png"/>
          <p:cNvPicPr/>
          <p:nvPr/>
        </p:nvPicPr>
        <p:blipFill>
          <a:blip r:embed="rId3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Biological control of postharvest diseases</a:t>
            </a:r>
            <a:br>
              <a:rPr sz="3200"/>
            </a:b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with antagonistic bacteria, filamentus fungi and ye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532080" y="2882880"/>
            <a:ext cx="8611560" cy="1092240"/>
            <a:chOff x="532080" y="2882880"/>
            <a:chExt cx="8611560" cy="1092240"/>
          </a:xfrm>
        </p:grpSpPr>
        <p:grpSp>
          <p:nvGrpSpPr>
            <p:cNvPr id="150" name="Group 4"/>
            <p:cNvGrpSpPr/>
            <p:nvPr/>
          </p:nvGrpSpPr>
          <p:grpSpPr>
            <a:xfrm>
              <a:off x="532080" y="3197160"/>
              <a:ext cx="8611560" cy="777960"/>
              <a:chOff x="532080" y="3197160"/>
              <a:chExt cx="8611560" cy="777960"/>
            </a:xfrm>
          </p:grpSpPr>
          <p:sp>
            <p:nvSpPr>
              <p:cNvPr id="151" name="Rectangle 5"/>
              <p:cNvSpPr/>
              <p:nvPr/>
            </p:nvSpPr>
            <p:spPr>
              <a:xfrm>
                <a:off x="609480" y="3822480"/>
                <a:ext cx="4343040" cy="152640"/>
              </a:xfrm>
              <a:prstGeom prst="rect">
                <a:avLst/>
              </a:prstGeom>
              <a:solidFill>
                <a:srgbClr val="99ff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4952880" y="3822480"/>
                <a:ext cx="2282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7"/>
              <p:cNvSpPr/>
              <p:nvPr/>
            </p:nvSpPr>
            <p:spPr>
              <a:xfrm>
                <a:off x="5181480" y="3822480"/>
                <a:ext cx="3962160" cy="1526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Text Box 8"/>
              <p:cNvSpPr/>
              <p:nvPr/>
            </p:nvSpPr>
            <p:spPr>
              <a:xfrm>
                <a:off x="532080" y="3213000"/>
                <a:ext cx="425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ff"/>
                    </a:solidFill>
                    <a:latin typeface="Arial"/>
                  </a:rPr>
                  <a:t>Growth and development in the fiel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Text Box 9"/>
              <p:cNvSpPr/>
              <p:nvPr/>
            </p:nvSpPr>
            <p:spPr>
              <a:xfrm>
                <a:off x="6018840" y="319716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ff"/>
                    </a:solidFill>
                    <a:latin typeface="Arial"/>
                  </a:rPr>
                  <a:t>Postharves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Text Box 10"/>
            <p:cNvSpPr/>
            <p:nvPr/>
          </p:nvSpPr>
          <p:spPr>
            <a:xfrm>
              <a:off x="4471920" y="2882880"/>
              <a:ext cx="11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ff"/>
                  </a:solidFill>
                  <a:latin typeface="Arial"/>
                </a:rPr>
                <a:t>Harves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Rectangle 11"/>
          <p:cNvSpPr/>
          <p:nvPr/>
        </p:nvSpPr>
        <p:spPr>
          <a:xfrm>
            <a:off x="235800" y="2209680"/>
            <a:ext cx="75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When the antagonist should be appli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4829040" y="4038480"/>
            <a:ext cx="43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 confined environment for the storage of the harvested commodities provides a great opportunity for applying biocontrol ag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 temperature and the RH are stable 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and control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y act in more concentrated plant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 value of the harvested crop is great 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enough to justify expensive 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control proced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5105520" y="32767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76320" y="20570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he confined storage environment great opportunity for applying biocontrol agents since temperature and humidity are stable and control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Easy to apply biocontrol agents (they act on the more concentrated plant par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High value to justify extensive expensive control procedures</a:t>
            </a: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80880" y="3808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ff"/>
                </a:solidFill>
                <a:latin typeface="Arial"/>
              </a:rPr>
              <a:t>Advantages to implemment biocontrol after harv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Object 2"/>
          <p:cNvGraphicFramePr/>
          <p:nvPr/>
        </p:nvGraphicFramePr>
        <p:xfrm>
          <a:off x="382680" y="1444680"/>
          <a:ext cx="11045880" cy="4052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1444680"/>
                    <a:ext cx="1104588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Picture 5" descr="maich.png"/>
          <p:cNvPicPr/>
          <p:nvPr/>
        </p:nvPicPr>
        <p:blipFill>
          <a:blip r:embed="rId4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Biological control of postharvest diseases</a:t>
            </a:r>
            <a:br>
              <a:rPr sz="3200"/>
            </a:b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with antagonistic bacteria, filamentus fungi and ye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re research is needed to understa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mode of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ecological succession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of antagonistic microorganisms on the surface of fr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effect of PH practice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on the biological activity of the introduce antagon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dynamics of the interaction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between antagonists, pathogen and the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Human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health and safety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a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68580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228600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Plant and animal-derived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Plant ex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Essential oils and vola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Microbial fermentation and animal by-products</a:t>
            </a: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(chitosan, pullul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7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Washed products</a:t>
            </a: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develop more rot than unwashed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0000"/>
                </a:solidFill>
                <a:latin typeface="Arial"/>
              </a:rPr>
              <a:t>Bacillus subtilis</a:t>
            </a: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from the surface of citrus fruit</a:t>
            </a:r>
            <a:br>
              <a:rPr sz="2400"/>
            </a:b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nhibited the development of 13 pathogens of citrus fr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0000"/>
                </a:solidFill>
                <a:latin typeface="Arial"/>
              </a:rPr>
              <a:t>Trichoderma sp</a:t>
            </a: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reduces the green mold disease of citrus fruit by 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Penicillium digita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04920" y="380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ff"/>
                </a:solidFill>
                <a:latin typeface="Arial"/>
              </a:rPr>
              <a:t>Isolation of natural antagon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0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60948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1752480"/>
            <a:ext cx="9144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nduced resistance in PH commod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Defence respones - activation of defence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-deposition of lignin, callose, and hydroxiproline-rich glycoproteins; accumulation of phytoalexin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-synthesis of proteinase inhibitors and lytic enzymes (chitinases, chitosanase, b-1,3-glucanases)</a:t>
            </a: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572000" y="3962520"/>
            <a:ext cx="4572000" cy="289548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6"/>
          <p:cNvGrpSpPr/>
          <p:nvPr/>
        </p:nvGrpSpPr>
        <p:grpSpPr>
          <a:xfrm>
            <a:off x="838080" y="4203720"/>
            <a:ext cx="3733920" cy="2654280"/>
            <a:chOff x="838080" y="4203720"/>
            <a:chExt cx="3733920" cy="2654280"/>
          </a:xfrm>
        </p:grpSpPr>
        <p:pic>
          <p:nvPicPr>
            <p:cNvPr id="184" name="Picture 7" descr=""/>
            <p:cNvPicPr/>
            <p:nvPr/>
          </p:nvPicPr>
          <p:blipFill>
            <a:blip r:embed="rId3"/>
            <a:stretch/>
          </p:blipFill>
          <p:spPr>
            <a:xfrm>
              <a:off x="838080" y="4203720"/>
              <a:ext cx="3733920" cy="26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8"/>
            <p:cNvSpPr/>
            <p:nvPr/>
          </p:nvSpPr>
          <p:spPr>
            <a:xfrm>
              <a:off x="2724840" y="4230360"/>
              <a:ext cx="170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Healed wou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in ap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Picture 11" descr="maich.png"/>
          <p:cNvPicPr/>
          <p:nvPr/>
        </p:nvPicPr>
        <p:blipFill>
          <a:blip r:embed="rId4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6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68580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2286000"/>
            <a:ext cx="914400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Control of PH diseases with elic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Ultraviolet light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ff"/>
                </a:solidFill>
                <a:latin typeface="Arial"/>
              </a:rPr>
              <a:t>(non-ionizing radiation-190-280 nm) activates the biosynthesis of phytoalexins and elicitation of pathogenesis related protei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Prestorage heating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ff"/>
                </a:solidFill>
                <a:latin typeface="Arial"/>
              </a:rPr>
              <a:t>potential for control of postharvest diseases by directly inhibiting pathogen growth, activating the natural resistance of the host, and indirectly by slowing down the ripening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Chitosan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ff"/>
                </a:solidFill>
                <a:latin typeface="Arial"/>
              </a:rPr>
              <a:t>besides interfering directly with fungal growth, chitosan can induce several defence responses in plant tissue.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Attenuated strain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ff"/>
                </a:solidFill>
                <a:latin typeface="Arial"/>
              </a:rPr>
              <a:t>by inoculation with certain microorganisms (e.g. by antagonists yeasts)to induce defence response in harvested tiss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7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60948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0" y="2286000"/>
            <a:ext cx="91440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Genetic transformation of plants to increase disease                                                                            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Several pathogen- activated defence genes have been identified, cloned, and studied at the molecular level. Attepts are underway to generate transgenic plants with defence-related ge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60948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2286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Combining different biological control method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7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antagonist directly interacts with path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e.g.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Trichoderma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 attack pathogens by direct parasit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he possible production of glucanases or chitinases by the antagon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175248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ff"/>
                </a:solidFill>
                <a:latin typeface="Arial"/>
              </a:rPr>
              <a:t>Antagonistic microorg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 of yeast antago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antagonist successfully competes with pathogen for nutrients and/o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e.g. US-7 yeast against the citrus pathogen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Penicillium digit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Antagonistic ye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nutrient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site ex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direct parasi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Parasi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By secretion of antibio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antibiotic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with wide antifungal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e.g.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Bacillus substilis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and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 Pseudomonas ceparia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produce an antibiotic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(iturin, gramicidin S)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with wide antifungal spectr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against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Monilinia fruticola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on stone fr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Pseudomonas cepacia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----&gt; pyrrolnitrin /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Penicilium digitatum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Antagonistic ye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nutrient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site ex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direct parasi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antagonist induces resistance processes in the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e.g. when US-7 (yeast against Penicillium) ethylene production increased--&gt; activity of PAL (phenols, phytoalexins and lignin)-increased resistance to dis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0T14:54:46Z</dcterms:created>
  <dc:creator>Sfakiotakis</dc:creator>
  <dc:description/>
  <dc:language>en-US</dc:language>
  <cp:lastModifiedBy>dimoleni</cp:lastModifiedBy>
  <cp:lastPrinted>2005-05-24T12:16:42Z</cp:lastPrinted>
  <dcterms:modified xsi:type="dcterms:W3CDTF">2011-04-29T13:20:37Z</dcterms:modified>
  <cp:revision>39</cp:revision>
  <dc:subject/>
  <dc:title>Xειρισμοί για αντιμετώπιση μετασυλλεκτικών ασθενειών</dc:title>
</cp:coreProperties>
</file>